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7F45-A6B5-4A6C-857A-4C2943A1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E3DC-2D44-45E0-A795-2B76FFFC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09A3-33F2-4622-9B36-7C8DC28F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C453-9012-4138-83A8-419E287A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DC76-D80E-4895-A563-84D73F5D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0F1D-65A6-4D0E-BA16-7487C361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9DAA-DDEA-4F6B-B9E9-ABE8B05B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3D58-E169-4235-AC3D-8FCE9A4D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F072-9C7E-498D-8416-DBA4728E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AD15-4493-4ADB-A33E-6AFFD076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90E0-7D7C-428B-8E09-ED23BC53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3BF6-135D-4398-8FF0-BCFA0295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3BC5-E132-485F-92B7-F8D2A463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B16E-8701-4F65-B0A2-60782329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153B-E77B-4845-B764-254DB967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23D3-7E67-437C-B098-5EEB25921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EC45-E90F-4934-BE7C-18E2F74E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7EA5-3DCA-4630-9E81-18D90B31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9F15-E3C9-491A-AE56-C9C490E4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ADCE-F243-4772-B3E4-76E4FA1C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3983-E08C-40C7-A7BC-87EAF49E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9773-9673-4E2C-B96E-240AE103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B427-80BB-47B9-8481-194365B5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88C1-412F-48E2-97B3-4839942B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DD00-2036-4948-9C12-BA94708E24C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A02E-8C0E-4AF7-B952-AE2647052F8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nited States in WWI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4.1:  Mobilizing the Home Fro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.  Converting the Econo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merican industry wins the w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ies change from cars to planes and tanks 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ip prefabricated = fast production; welded from 244 to 41 days Wa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duction Board:  Responsible for producing war products and controlling raw materials and suppl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ffice of War Mobilization:  settled arguments between WPB and the military re: produ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.  Building an Ar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lective Service Act – peace time draft implemen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I = government iss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litary still segregated;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A to noncombat jobs initial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support or not support the war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uble V” campaig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uskegee Airme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de Talker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omen’s Army Corps (WAC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2-02-13T20:30:19Z</dcterms:modified>
  <cp:revision>6</cp:revision>
  <dc:subject/>
  <dc:title>PowerPoint Presentation</dc:title>
</cp:coreProperties>
</file>